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78F4-AAD3-4D46-8DF9-EEB64C3D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DD82-0D9A-4204-80BE-74B73C41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541-6325-47EE-A404-0C3704A9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4485-9F29-40B1-81B3-79F86F23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1BB-FF74-443F-8E0E-D6DB9A2E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2AB-DDD5-46FF-8392-A609759B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FA00-76FE-466E-AB69-B9337F24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7C9E-C3ED-4D1F-8429-20D70C07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1A2-AB1F-44D3-8C2C-5EA2C953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B0BA-0D41-40EE-84C3-B5C57B00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E7B9-2967-4F10-8719-4890E90C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237-8F99-4280-B679-0DBC90B2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83D7-9074-407C-BFCD-C549C62E3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6360"/>
            <a:ext cx="571500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 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Doug McClell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n the cloth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ore that da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ash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them to the squ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fashio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nument of ash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s will ris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en the heroic shap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per fa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the square wi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 eyeles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desh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depart to a muff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rums, leaving on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low sounds of wind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wind being wind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hes will follow i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ing a swept fiel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untless jagged st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©2002, Doug McClel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0"/>
            <a:ext cx="5105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apply SOAPS work to poetry interpre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understand how thesis statements are the products of several, related ste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develop, evaluate, and edit a strong thesis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2362320"/>
            <a:ext cx="4572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6360"/>
            <a:ext cx="571500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 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Doug McClell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cloth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day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ash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m to the squ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ashio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nument of ash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s wil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f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heroic shap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per fa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the square will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c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yeles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desh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a muff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rums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av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low sounds of wind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wind being wind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hes wil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l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av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swept fiel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untless jagged st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©2002, Doug McClel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0"/>
            <a:ext cx="5105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apply SOAPS work to poetry interpre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understand how thesis statements are the products of several, related ste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develop, evaluate, and edit a strong thesis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362320"/>
            <a:ext cx="4572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6360"/>
            <a:ext cx="571500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 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Doug McClell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n the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loth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ore that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s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them to the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qu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fashio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onu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s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i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ris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en the heroic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hap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a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the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qu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 eyeles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desh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depart to a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uff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ru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eaving on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low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u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ind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ing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s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follow i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ing a swept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iel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untless jagged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©2002, Doug McClel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0"/>
            <a:ext cx="5105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apply SOAPS work to poetry interpre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understand how thesis statements are the products of several, related ste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develop, evaluate, and edit a strong thesis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2362320"/>
            <a:ext cx="4572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6360"/>
            <a:ext cx="571500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 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Doug McClell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n the cloth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ore that da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ash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them to the squ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fashio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nument of ash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s will ris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en the heroic shap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per fa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the square wi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 eyeles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desh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depart to a muff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rums, leaving on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low sounds of wind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wind being wind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hes will follow i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ing a swept fiel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untless jagged st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©2002, Doug McClel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0"/>
            <a:ext cx="5105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apply SOAPS work to poetry interpre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understand how thesis statements are the products of several, related ste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develop, evaluate, and edit a strong thesis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2057400"/>
            <a:ext cx="541008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 9/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as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Attack” About.com Ant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r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 on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6360"/>
            <a:ext cx="571500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 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Doug McClell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n the cloth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ore that da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ash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them to the squ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fashio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nument of ash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s will ris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en the heroic shap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per fa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the square wi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 eyeles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desh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depart to a muff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rums, leaving on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low sounds of wind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wind being wind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hes will follow i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ing a swept fiel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untless jagged st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©2002, Doug McClel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5105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apply SOAPS work to poetry interpre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understand how thesis statements are the products of several, related ste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develop, evaluate, and edit a strong thesis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2590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is State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7:26:39Z</dcterms:created>
  <dc:creator>Administrator</dc:creator>
  <dc:description/>
  <dc:language>en-US</dc:language>
  <cp:lastModifiedBy>Administrator</cp:lastModifiedBy>
  <dcterms:modified xsi:type="dcterms:W3CDTF">2010-09-17T13:29:25Z</dcterms:modified>
  <cp:revision>3</cp:revision>
  <dc:subject/>
  <dc:title>Slide 1</dc:title>
</cp:coreProperties>
</file>